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116-C8D8-4540-9854-B986C712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CD7-2817-40E6-999D-9365C066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8E04-3ECE-4CF0-8203-832D571C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D252-3834-4F73-8C17-5532FC09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F697-19A2-49D0-B245-4D6CF84E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6F3C-73DA-4695-B8F4-548273C2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4F8E-FEE4-4007-9147-C04A54A9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01A5-554A-44D1-A7AF-EBEEB530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CD5C-4A6C-4D80-9AB2-084A43AB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991E-940B-4C64-85AD-4F19BBA9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F52C-213B-4877-841D-E4A05A0E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A48-2EF9-464F-847A-F8F1B539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CA9B-9FF0-4184-84FA-C8CCC703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33DD-801B-4462-86A8-44F004B3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3F6E-2620-4720-B013-C60AB77B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5227-9E8B-4863-A3C2-5A99462E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22B6-58B3-4DC8-B72B-612799AF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A26-9FE2-4151-8EB4-8BE28223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55C-F752-4EA9-AD22-8760AA9E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1B27-3B59-4AD5-A837-5B14CC27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D3E0-9D15-4C7E-A955-C640F806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2606-15F9-4F50-AD3B-8CF56EB9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E9FF-7A86-4A61-938D-E0E7AA01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4336-2D31-4160-AED3-49C701CE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5365-29F2-43F0-BA9E-D689818A2A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A950-B8B8-4E06-852B-2A1AD0DC29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s.google.com/imgres?imgurl=http://www.lclark.edu/~soan221/96/mustache.GIF&amp;imgrefurl=http://www.lclark.edu/~soan221/96/foodtrend.html&amp;h=725&amp;w=525&amp;sz=246&amp;hl=en&amp;start=2&amp;um=1&amp;tbnid=3sKQx5WaTbSXKM:&amp;tbnh=140&amp;tbnw=101&amp;prev=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tical Propagand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875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Glittering Genera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words and phrases that sound appealing and everyone agrees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. “I stand f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edo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rican Wa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495680" y="1523880"/>
            <a:ext cx="4419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Symbol Transfer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ng yourself to a respected person, group, or symb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the words of Abe Lincoln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be used to connect opponent to something bad as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248000" cy="4191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334120" y="9144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57913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didate associates himself with medicine usually a good t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3576600" cy="4267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066680" y="990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57913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panese portrayed as overpowering barbari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. Card Stac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use facts that support your argument and hurt op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“My opponent voted against raising Social Security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You don’t mention that the reason he did that was because the increase was too sma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. Card Stac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2803680" cy="3505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267080" y="1219320"/>
            <a:ext cx="4496040" cy="3416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09480" y="4876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Card Stacking is used many times during debat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759560" cy="4648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 what does this all mean?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6095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Confused Voters!?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Propaganda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leading Messages, information, or rumors to influence public opi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info. In any way that supports a predetermined obj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Used in Political Campa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t of Propaga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ly used on mass scale by advertisers to sell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447920"/>
            <a:ext cx="3614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tical Propagand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in many wa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Campa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Political Propaga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Plain Fol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using the plain-folks technique, speakers attempt to convince their audience that they, and their ideas, are "of the people.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's recent presidents have all been millionaires, but they have gone to great lengths to present themselves as ordinary citize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Plain Fol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267080" y="1447920"/>
            <a:ext cx="4496040" cy="3225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1371600"/>
            <a:ext cx="3809880" cy="49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l Clinton ate at McDona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rge Bush Sr. Admitted to hating Brocco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rge Bush on his ranch in Texas doing manual l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Bandwag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ges voters to support a candidate because everyone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 of us want to be left behind, this technique can be quite successfu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191120" y="1752480"/>
            <a:ext cx="47242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 Name Cal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ame-calling technique links a person, or idea, to a negative symbo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pes the audience will reject the person on the basis of the negative symbol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e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looking at the available evidence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267080" y="1676520"/>
            <a:ext cx="4496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20:15:03Z</dcterms:created>
  <dc:creator>gx270</dc:creator>
  <dc:description/>
  <dc:language>en-US</dc:language>
  <cp:lastModifiedBy>gx270</cp:lastModifiedBy>
  <dcterms:modified xsi:type="dcterms:W3CDTF">2008-04-24T18:30:12Z</dcterms:modified>
  <cp:revision>3</cp:revision>
  <dc:subject/>
  <dc:title>Political Propaganda </dc:title>
</cp:coreProperties>
</file>